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035-2C58-4484-8363-E9746DAA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F6F-0A2D-4BAE-9E54-D844E172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753-72CC-403A-B2A8-72D2AD9F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5A2-677E-41DD-AFDD-0B169D2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3C8-A21C-402F-B638-6C17C398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226-9145-4246-B410-5F6530CA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F42-A8EB-4452-8259-5577BA4A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EAE-9256-4AF7-A714-CAF3DAB1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CAC-2A1B-42A6-A029-1B021936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90F-9968-4D1B-9851-9FE0A90E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E22-5C65-42C5-96E2-D4429BB8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1F2-F633-4F19-9E92-F87D3E1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4DC-84E0-4CE7-9331-0A1659A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48F-6965-4572-B7D9-BF0BB41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359-35BA-486B-AE8C-6E723F6A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es y quieres ir al parke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. ¿Cómo están y que hacen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y puedemos ir a las 3 de la tarde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ero esta lluven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26Z</dcterms:modified>
  <cp:revision>109</cp:revision>
  <dc:subject/>
  <dc:title>Profile</dc:title>
</cp:coreProperties>
</file>